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616-35B8-4C7C-BB4B-13E5C1AD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268-34A5-443D-8D1B-B23E0297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1AB-CCC2-4700-B35C-A1750829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E9D-55AF-4E28-AB07-70FAE6BE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844-86D0-4495-8CD6-5F3C709E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7E0-D5CC-4165-B45A-5686A7EF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F4E-3D31-4D76-BD59-8901F611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3CE-52BE-4B0A-85E2-8E7D7A5E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412-E569-49F3-8C41-33A945A6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C4F-9048-4539-B73C-AC78CAEB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D0D-C083-427F-8617-50532498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6CF-D97E-490F-868A-BF2B8C7A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8F2-2287-4665-88A2-623A12D715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07560"/>
            <a:ext cx="640080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360" y="209520"/>
            <a:ext cx="81532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5640" y="361800"/>
            <a:ext cx="817272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960" y="352440"/>
            <a:ext cx="8182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5640" y="366840"/>
            <a:ext cx="817272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960" y="352440"/>
            <a:ext cx="8182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143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5360" y="361800"/>
            <a:ext cx="81532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0680" y="352440"/>
            <a:ext cx="8162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0680" y="352440"/>
            <a:ext cx="8162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5360" y="361800"/>
            <a:ext cx="81532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0680" y="343080"/>
            <a:ext cx="8162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6:34:03Z</dcterms:created>
  <dc:creator>微软用户</dc:creator>
  <dc:description/>
  <dc:language>en-US</dc:language>
  <cp:lastModifiedBy>微软用户</cp:lastModifiedBy>
  <dcterms:modified xsi:type="dcterms:W3CDTF">2014-10-10T06:34:35Z</dcterms:modified>
  <cp:revision>1</cp:revision>
  <dc:subject/>
  <dc:title>幻灯片 1</dc:title>
</cp:coreProperties>
</file>